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02AB0-D0B3-4A1E-B8B0-61192FAD9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86104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4920" y="3849120"/>
            <a:ext cx="86104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1F9D9-E405-4B73-8DA8-1843E5144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17080" y="114264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920" y="384912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17080" y="384912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0DFF0-9EC0-45D5-A455-B6384FD51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277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16240" y="1142640"/>
            <a:ext cx="277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27560" y="1142640"/>
            <a:ext cx="277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4920" y="3849120"/>
            <a:ext cx="277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16240" y="3849120"/>
            <a:ext cx="277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27560" y="3849120"/>
            <a:ext cx="277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082FB-2102-47CC-94F2-E0B268116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4920" y="11426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D4CAE-BB28-4CFB-ADA0-1F4659291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C3FC7-7333-456C-B564-EC2FC129A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42015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17080" y="1142640"/>
            <a:ext cx="42015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5E085-46F6-4C88-A0AE-62635ECB7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949CC-3CC1-4348-A2E4-C23F014C3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28240"/>
            <a:ext cx="86868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A635C-B64C-4129-862B-07399F341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17080" y="1142640"/>
            <a:ext cx="42015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4920" y="384912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9E904-E9A5-4E3C-8C33-090951B93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42015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17080" y="114264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17080" y="384912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1073E-5774-4552-A4C0-0539C4C2C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17080" y="114264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849120"/>
            <a:ext cx="86104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2AEE9-6845-4EB2-A2AA-120933C04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1426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484120" y="6400800"/>
            <a:ext cx="929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58023-542F-4C3F-AAC0-D62268CB28E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nsport in Plant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295280" y="121896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hapter 3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rcRect l="27503" t="3331" r="27503" b="1669"/>
          <a:stretch/>
        </p:blipFill>
        <p:spPr>
          <a:xfrm>
            <a:off x="3124080" y="1981080"/>
            <a:ext cx="2887920" cy="457200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Water and Mineral Movemen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5943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Regulation of transpi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omata open and close due to changes in turgor pressure of guard cell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urgor results from active uptake of potassium (K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 io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crease in K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+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centration creates a water potential that causes water to enter osmotically, guard cells to become turgid, and stomata to ope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rcRect l="51878" t="11252" r="19062" b="45000"/>
          <a:stretch/>
        </p:blipFill>
        <p:spPr>
          <a:xfrm>
            <a:off x="6310440" y="685800"/>
            <a:ext cx="2833560" cy="32004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rcRect l="46252" t="12504" r="24688" b="46252"/>
          <a:stretch/>
        </p:blipFill>
        <p:spPr>
          <a:xfrm>
            <a:off x="6351480" y="3886200"/>
            <a:ext cx="279252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6A14E-D295-4F57-8178-0F49AC4B7E51}" type="slidenum">
              <a:t>10</a:t>
            </a:fld>
          </a:p>
        </p:txBody>
      </p:sp>
    </p:spTree>
  </p:cSld>
  <p:transition>
    <p:pull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52280" y="76320"/>
            <a:ext cx="8763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ome other facts about the stom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28600" y="1295280"/>
            <a:ext cx="876312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pen in the day and closed at night - need carbon dioxide in the daylight for photosynthe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en water is scarce, plant wilts and guard cells become flac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bscisic acid - plant hormone that causes K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to pass out of cells and guard cells become flac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igh levels of CO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cause guard cells to become flac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eaves lost when water is scar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20CF3-9D45-4644-874A-E2EFCFAC751E}" type="slidenum">
              <a:t>11</a:t>
            </a:fld>
          </a:p>
        </p:txBody>
      </p:sp>
    </p:spTree>
  </p:cSld>
  <p:transition>
    <p:pull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Water and Mineral Movemen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Other factors regulating transpi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rbon dioxi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gh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mpera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Water loss regulation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rmanc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ciduous leav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ck, hard leav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ichom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7C6C4-0732-4053-905E-65B30A483A7A}" type="slidenum">
              <a:t>12</a:t>
            </a:fld>
          </a:p>
        </p:txBody>
      </p:sp>
    </p:spTree>
  </p:cSld>
  <p:transition>
    <p:pull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Water and Mineral Movemen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lant response to flooding – depletes oxyg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00"/>
              </a:buClr>
              <a:buSzPct val="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resh wa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00"/>
              </a:buClr>
              <a:buSzPct val="5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erenchym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- loose parenchyma tissue with large air spa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xygen transported from above-water to below-water structu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22D29-4761-4709-858F-E34D3B98BE2E}" type="slidenum">
              <a:t>13</a:t>
            </a:fld>
          </a:p>
        </p:txBody>
      </p:sp>
    </p:spTree>
  </p:cSld>
  <p:transition>
    <p:pull dir="r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erenchyma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0" t="8331" r="0" b="3331"/>
          <a:stretch/>
        </p:blipFill>
        <p:spPr>
          <a:xfrm>
            <a:off x="914400" y="1143000"/>
            <a:ext cx="7315200" cy="4846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C9E8D-40AC-4F33-A305-77B16D9B7D0A}" type="slidenum">
              <a:t>14</a:t>
            </a:fld>
          </a:p>
        </p:txBody>
      </p:sp>
    </p:spTree>
  </p:cSld>
  <p:transition>
    <p:pull dir="ru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lant Response to Flooding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alt wa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lt must be excluded, actively secreted, or diluted as it ente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ngroves have pneumatophor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rcRect l="0" t="3331" r="0" b="0"/>
          <a:stretch/>
        </p:blipFill>
        <p:spPr>
          <a:xfrm>
            <a:off x="2438280" y="3505320"/>
            <a:ext cx="4343400" cy="3149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8B14F-45B6-4DA3-9543-FD9716F8D38C}" type="slidenum">
              <a:t>15</a:t>
            </a:fld>
          </a:p>
        </p:txBody>
      </p:sp>
    </p:spTree>
  </p:cSld>
  <p:transition>
    <p:pull dir="ru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hloem Transport is Bidirectiona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ranslocat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- distribution of carbohydrates manufactured in leaves to rest of the pla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Energy requirements for phloem transpo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00"/>
              </a:buClr>
              <a:buSzPct val="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mass-flow hypothese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solved carbohydrates flow from a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ourc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nd are released at a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ink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>
              <a:spcBef>
                <a:spcPts val="7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F801D-D06E-4265-911D-0C50493DD88D}" type="slidenum">
              <a:t>16</a:t>
            </a:fld>
          </a:p>
        </p:txBody>
      </p:sp>
    </p:spTree>
  </p:cSld>
  <p:transition>
    <p:pull dir="r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0" y="8377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Translocat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- Distribution of nutrients, especially carbohydrates, through the phloem – “source and sink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Osmosi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plays an important ro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loem loading - Sucrose is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ctively loaded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o phloem tub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ater moves in and carries sucrose along passiv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 energy required for this process -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bu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oading and unloading sucrose in phloem tubes does require ener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mpanion cells of phloem provide the AT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D14F2-8DD9-4C0D-96BB-6FA2A0DF239A}" type="slidenum">
              <a:t>17</a:t>
            </a:fld>
          </a:p>
        </p:txBody>
      </p:sp>
    </p:spTree>
  </p:cSld>
  <p:transition>
    <p:pull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Outline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verview of Water and Mineral Mov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ter Potenti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ter and Mineral Absorp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ter and Mineral Mov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directional Phloem Transpor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EDFC8-A796-45CA-A8F9-2E785942D118}" type="slidenum">
              <a:t>2</a:t>
            </a:fld>
          </a:p>
        </p:txBody>
      </p:sp>
    </p:spTree>
  </p:cSld>
  <p:transition>
    <p:pull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Overview of Water and Mineral Movemen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240" y="1066680"/>
            <a:ext cx="89154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st nutrients and water enter plant through roots, and move upward in xyle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ter moves through spaces between cell protoplasts, plasmodesmata, cell membranes and xyle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smosis is enhanced by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quaporin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(water channels) in vacuole and plasma membran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ranspirat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“pulls” water through stomat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hesio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he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4AF69-918A-4586-8B4A-BFDF469B613C}" type="slidenum">
              <a:t>3</a:t>
            </a:fld>
          </a:p>
        </p:txBody>
      </p:sp>
    </p:spTree>
  </p:cSld>
  <p:transition>
    <p:pull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Water Movement Through A Plan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rcRect l="0" t="6669" r="0" b="6669"/>
          <a:stretch/>
        </p:blipFill>
        <p:spPr>
          <a:xfrm>
            <a:off x="380880" y="990720"/>
            <a:ext cx="8382240" cy="5449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3360C-9136-44FA-AECA-F6D7B665684C}" type="slidenum">
              <a:t>4</a:t>
            </a:fld>
          </a:p>
        </p:txBody>
      </p:sp>
    </p:spTree>
  </p:cSld>
  <p:transition>
    <p:pull dir="ru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Water and Mineral Absorption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st water absorbed through root hai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lute potential greater than surrounding soi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ergy expenditure required to accumulate ions in root ce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ton pum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ter and ions must pass through plasma membranes and protoplasts of endodermal cells to reach the xyle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A6B15-EE87-41FF-B6C0-3882369B1200}" type="slidenum">
              <a:t>5</a:t>
            </a:fld>
          </a:p>
        </p:txBody>
      </p:sp>
    </p:spTree>
  </p:cSld>
  <p:transition>
    <p:pull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Mineral Transport in Root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rcRect l="0" t="11669" r="0" b="6669"/>
          <a:stretch/>
        </p:blipFill>
        <p:spPr>
          <a:xfrm>
            <a:off x="533520" y="1219320"/>
            <a:ext cx="8153280" cy="4992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B83E6-1C83-4F56-B960-C7CA7C2A07A4}" type="slidenum">
              <a:t>6</a:t>
            </a:fld>
          </a:p>
        </p:txBody>
      </p:sp>
    </p:spTree>
  </p:cSld>
  <p:transition>
    <p:pull dir="ru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Water and Mineral Absorption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-360" y="914040"/>
            <a:ext cx="65530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Root pressur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- movement of water into the plant and up the xylem columns despite absence of transpi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tive transport increases solute potential of roo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SzPct val="5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gh root pressure may lead to gutta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SzPct val="5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ccurs through groups of cells located near edge of lea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705720" y="4038480"/>
            <a:ext cx="2076480" cy="2019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057D4-FCDF-4FBD-9691-7F839747681B}" type="slidenum">
              <a:t>7</a:t>
            </a:fld>
          </a:p>
        </p:txBody>
      </p:sp>
    </p:spTree>
  </p:cSld>
  <p:transition>
    <p:pull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Water and Mineral Movemen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aporation from leaves produces a tension on entire water column extending down to the roo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ter has inherent tensile strength that varies inversely with the diameter of the colum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ir bubbles cause xylem to fai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lants must admit carbon dioxide, but must control water lo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0DE75-2CDC-4375-9EA4-346A14992580}" type="slidenum">
              <a:t>8</a:t>
            </a:fld>
          </a:p>
        </p:txBody>
      </p:sp>
    </p:spTree>
  </p:cSld>
  <p:transition>
    <p:pull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ranspiration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rcRect l="0" t="5000" r="0" b="5000"/>
          <a:stretch/>
        </p:blipFill>
        <p:spPr>
          <a:xfrm>
            <a:off x="914400" y="1219320"/>
            <a:ext cx="7315200" cy="493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6C459-E62F-454A-9D0E-77371A483CC2}" type="slidenum">
              <a:t>9</a:t>
            </a:fld>
          </a:p>
        </p:txBody>
      </p:sp>
    </p:spTree>
  </p:cSld>
  <p:transition>
    <p:pull dir="ru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1T15:30:09Z</dcterms:created>
  <dc:creator>Valued Gateway Client</dc:creator>
  <dc:description/>
  <dc:language>en-US</dc:language>
  <cp:lastModifiedBy>Doug Elrod</cp:lastModifiedBy>
  <dcterms:modified xsi:type="dcterms:W3CDTF">2005-08-04T12:29:15Z</dcterms:modified>
  <cp:revision>62</cp:revision>
  <dc:subject/>
  <dc:title>PowerPoint Presentation</dc:title>
</cp:coreProperties>
</file>